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7A8-4B56-42E2-8234-80EA31EC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6472-79D7-412D-8863-822E1BDE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6A9-89AD-4906-BA06-591B45D3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13B0-7FCC-42EA-9728-62C2E3F5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6C7C-C5C0-4005-9DDC-E5B77EE8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32DF-2845-48E5-A7F8-45FB5C26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7B0-F4E3-470F-BA78-66650D90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9950-B99B-4B36-9D28-69EDA699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D6AD-3CE5-4455-B93D-1FB1AA12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C8D-F9EF-47FC-ACBF-7B3EBBC3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0F5-AF31-4636-9C81-710F2080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94D-3991-448B-9D34-1174749E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D124-EF07-4CF1-8E15-E1FCEA37D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Brown Wall stone border ppt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20976600">
            <a:off x="380520" y="3504960"/>
            <a:ext cx="2482920" cy="3038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43" name="" descr="Diego Rivera  : Peasants"/>
          <p:cNvPicPr/>
          <p:nvPr/>
        </p:nvPicPr>
        <p:blipFill>
          <a:blip r:embed="rId3">
            <a:grayscl/>
          </a:blip>
          <a:stretch/>
        </p:blipFill>
        <p:spPr>
          <a:xfrm rot="554400">
            <a:off x="3124080" y="2514240"/>
            <a:ext cx="3200400" cy="2165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4">
            <a:lum contrast="-18000"/>
          </a:blip>
          <a:stretch/>
        </p:blipFill>
        <p:spPr>
          <a:xfrm rot="20820000">
            <a:off x="6400440" y="304560"/>
            <a:ext cx="2328840" cy="29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5" name=""/>
          <p:cNvSpPr txBox="1"/>
          <p:nvPr/>
        </p:nvSpPr>
        <p:spPr>
          <a:xfrm>
            <a:off x="304920" y="228600"/>
            <a:ext cx="46479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lephant"/>
              </a:rPr>
              <a:t>Peasants</a:t>
            </a:r>
            <a:endParaRPr b="0" i="1" lang="en-US" sz="6000" spc="1" strike="noStrike">
              <a:ln w="0">
                <a:noFill/>
              </a:ln>
              <a:solidFill>
                <a:srgbClr val="ffff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Elephant"/>
              <a:ea typeface="Elephan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880" y="2057400"/>
            <a:ext cx="3353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or Diego Rivera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4572000"/>
            <a:ext cx="228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ssica 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: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9 de marzo de dos mil d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Elephant"/>
              </a:rPr>
              <a:t>Biografìa</a:t>
            </a:r>
            <a:r>
              <a:rPr b="0" lang="en-US" sz="5500" spc="-1" strike="noStrike">
                <a:solidFill>
                  <a:srgbClr val="000000"/>
                </a:solidFill>
                <a:latin typeface="Elephan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Elephant"/>
              </a:rPr>
              <a:t>de </a:t>
            </a:r>
            <a:r>
              <a:rPr b="0" lang="en-US" sz="2600" spc="-1" strike="noStrike">
                <a:solidFill>
                  <a:srgbClr val="000000"/>
                </a:solidFill>
                <a:latin typeface="Elephant"/>
              </a:rPr>
              <a:t>Diego Rivera</a:t>
            </a: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 (1886-1957)</a:t>
            </a: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3581280" cy="53640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86: Nació en Guanajuato, Méx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udió en muchos paìses en Europa cuando es un niñ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e a la México y trabajó con otro artistas mexicanos famosos, Siqueiros y Oroz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ntó las obras sobre los etnias diferentes, especialmente la historia de los mexicanos con el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 su 20 años, empezó pintar muchos murales en Méx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29: Vivió con Frida Kah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30: Fue a la Nueva York a pintó los retratos y los mu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57: Murió en la Ciudad de México, Méx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1382800">
            <a:off x="4419360" y="1066680"/>
            <a:ext cx="2293920" cy="2293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8800">
            <a:off x="6829200" y="1295280"/>
            <a:ext cx="2314440" cy="1962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495680" y="3581280"/>
            <a:ext cx="1524240" cy="156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238880" y="358128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6019920" y="3581280"/>
            <a:ext cx="1212840" cy="1600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76920" y="5410080"/>
            <a:ext cx="4038480" cy="111024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ncima izquierda): Diego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encima derecha): Diego Rivera/Frida Kah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(debajo): los cuadros, retratos, y murales de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9595b9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Diego Rivera  : Peasants"/>
          <p:cNvPicPr/>
          <p:nvPr/>
        </p:nvPicPr>
        <p:blipFill>
          <a:blip r:embed="rId1"/>
          <a:stretch/>
        </p:blipFill>
        <p:spPr>
          <a:xfrm>
            <a:off x="1295280" y="990720"/>
            <a:ext cx="6705720" cy="453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828800" y="5715000"/>
            <a:ext cx="556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iondi"/>
              </a:rPr>
              <a:t>Tipo</a:t>
            </a:r>
            <a:r>
              <a:rPr b="1" lang="en-US" sz="2400" spc="-1" strike="noStrike">
                <a:solidFill>
                  <a:srgbClr val="000000"/>
                </a:solidFill>
                <a:latin typeface="Biondi"/>
              </a:rPr>
              <a:t>: una pintura/un cuad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iondi"/>
              </a:rPr>
              <a:t>Género</a:t>
            </a:r>
            <a:r>
              <a:rPr b="1" lang="en-US" sz="2400" spc="-1" strike="noStrike">
                <a:solidFill>
                  <a:srgbClr val="000000"/>
                </a:solidFill>
                <a:latin typeface="Biondi"/>
              </a:rPr>
              <a:t>: realista/mod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5228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Elephant"/>
              </a:rPr>
              <a:t>Peasa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 Diego Riv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Classy and authoritativ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0" y="15228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doni MT Black"/>
              </a:rPr>
              <a:t>Descrip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Diego Rivera  : Peasants"/>
          <p:cNvPicPr/>
          <p:nvPr/>
        </p:nvPicPr>
        <p:blipFill>
          <a:blip r:embed="rId2"/>
          <a:stretch/>
        </p:blipFill>
        <p:spPr>
          <a:xfrm>
            <a:off x="304920" y="990720"/>
            <a:ext cx="4267080" cy="288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4952880" y="1143000"/>
            <a:ext cx="381024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바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바탕"/>
              </a:rPr>
              <a:t>de 1931 (cuando Rivera es en Nueva Yor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바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바탕"/>
              </a:rPr>
              <a:t>una pintura de ac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바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바탕"/>
              </a:rPr>
              <a:t>dos mexica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바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바탕"/>
              </a:rPr>
              <a:t>trabajan en el ca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바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바탕"/>
              </a:rPr>
              <a:t>muy difícil: ponen los sombreros para el ca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바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  <a:ea typeface="바탕"/>
              </a:rPr>
              <a:t>la ropa blanca y gr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4267080"/>
            <a:ext cx="7467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no zapatas o caras en las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montañas café detrás del ca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tonos diferentes de anaranjado, café, y rojo (el cam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Heavy"/>
              </a:rPr>
              <a:t>sobre la historia de los mexica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odoni MT Black"/>
              </a:rPr>
              <a:t>El Tema</a:t>
            </a: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de</a:t>
            </a:r>
            <a:r>
              <a:rPr b="0" i="1" lang="en-US" sz="2000" spc="-1" strike="noStrike">
                <a:solidFill>
                  <a:srgbClr val="000000"/>
                </a:solidFill>
                <a:latin typeface="Elephant"/>
              </a:rPr>
              <a:t> “Peasan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1523880"/>
            <a:ext cx="4800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éxic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 historia de la vida de los méxic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s problemas de los méxica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38102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 pobr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lor/tristeza de trabaj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clase b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95880" y="1981080"/>
            <a:ext cx="2667240" cy="1814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95280" y="4800600"/>
            <a:ext cx="3124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icultur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a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i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505320" y="4572000"/>
            <a:ext cx="2133360" cy="1598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638680" y="4572000"/>
            <a:ext cx="2210040" cy="16113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Diego Rivera  : Peasants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191120" y="3581280"/>
            <a:ext cx="3504960" cy="1865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3809880" cy="21592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Mi Opin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523880"/>
            <a:ext cx="3809880" cy="213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colores del camp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ifí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as tonos diferentes (anaranjado, café, amarillo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3581280"/>
            <a:ext cx="3429000" cy="1850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tema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y interes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ual otros obras de Riv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y b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504960" y="53352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go Rivera.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as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N.d. Photograph. Oil Paintings Thai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ego Riv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N.d. Photograph. AP/Wide World Pho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grafíayVidas, . "Diego Rivera." 24 3 2012: n. page. Web. 29 Mar. 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rra.freepeople.net, . "Diego Rivera." 25 3 2012: n. page. Web. 29 Mar. 201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 rot="5400000">
            <a:off x="-2019240" y="2933640"/>
            <a:ext cx="632448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Bibliografía</a:t>
            </a:r>
            <a:endParaRPr b="1" lang="en-US" sz="2800" spc="1" strike="noStrike">
              <a:ln w="12600">
                <a:solidFill>
                  <a:srgbClr val="c4b596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diamond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23:52:07Z</dcterms:created>
  <dc:creator>Jessica</dc:creator>
  <dc:description/>
  <dc:language>en-US</dc:language>
  <cp:lastModifiedBy>Jessica</cp:lastModifiedBy>
  <dcterms:modified xsi:type="dcterms:W3CDTF">2012-03-29T21:37:27Z</dcterms:modified>
  <cp:revision>7</cp:revision>
  <dc:subject/>
  <dc:title>Slide 1</dc:title>
</cp:coreProperties>
</file>